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slider22.wav" ContentType="audio/x-wav"/>
  <Override PartName="/ppt/media/zapbig0g.wav" ContentType="audio/x-wav"/>
  <Override PartName="/ppt/media/bserie06.wav" ContentType="audio/x-wav"/>
  <Override PartName="/ppt/media/caralarmoff.wav" ContentType="audio/x-wav"/>
  <Override PartName="/ppt/media/lzipup01.wav" ContentType="audio/x-wav"/>
  <Override PartName="/ppt/media/h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B10-DA8D-4AC4-AB18-29A03564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144-40F9-4303-9B94-83FBE74C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81C-F9E8-416A-8CAA-82F7A0FF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C70-7B3D-4177-B0D7-D10502FF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133-E8CE-4511-BA55-13C72E3E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3C2-3E89-4F7D-9142-92E0BA48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F01-6254-4261-B834-024AD8FF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9E6-E1BF-40B9-BC65-F1A9E3E0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6E9-E41C-413A-B4F9-468CF56B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61D-3746-4BB3-9D1F-03893BD7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11D-4E71-4988-A5E9-3E1DD89D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22F-3CF9-4634-A138-177E4026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90AD-9356-42DF-8899-6C3EF0243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slider22.wav"/><Relationship Id="rId6" Type="http://schemas.openxmlformats.org/officeDocument/2006/relationships/audio" Target="../media/caralarmoff.wav"/><Relationship Id="rId7" Type="http://schemas.openxmlformats.org/officeDocument/2006/relationships/audio" Target="../media/hzipup01.wav"/><Relationship Id="rId8" Type="http://schemas.openxmlformats.org/officeDocument/2006/relationships/audio" Target="../media/zipdn102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slider22.wav"/><Relationship Id="rId5" Type="http://schemas.openxmlformats.org/officeDocument/2006/relationships/audio" Target="../media/caralarmoff.wav"/><Relationship Id="rId6" Type="http://schemas.openxmlformats.org/officeDocument/2006/relationships/audio" Target="../media/hzipup01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caralarmoff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slider22.wav"/><Relationship Id="rId6" Type="http://schemas.openxmlformats.org/officeDocument/2006/relationships/audio" Target="../media/caralarmoff.wav"/><Relationship Id="rId7" Type="http://schemas.openxmlformats.org/officeDocument/2006/relationships/audio" Target="../media/hzipup01.wav"/><Relationship Id="rId8" Type="http://schemas.openxmlformats.org/officeDocument/2006/relationships/audio" Target="../media/zipdn102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slider22.wav"/><Relationship Id="rId6" Type="http://schemas.openxmlformats.org/officeDocument/2006/relationships/audio" Target="../media/caralarmoff.wav"/><Relationship Id="rId7" Type="http://schemas.openxmlformats.org/officeDocument/2006/relationships/audio" Target="../media/hzipup01.wav"/><Relationship Id="rId8" Type="http://schemas.openxmlformats.org/officeDocument/2006/relationships/audio" Target="../media/zipdn102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81160" y="1417680"/>
                <a:ext cx="22636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152960" y="116208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by the reciproc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38040" y="3173400"/>
                <a:ext cx="152100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74880" y="3184560"/>
                <a:ext cx="6192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221000" y="1843200"/>
            <a:ext cx="4313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6560" y="3176640"/>
                <a:ext cx="495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 flipV="1">
            <a:off x="880920" y="3403080"/>
            <a:ext cx="533520" cy="489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449440" y="426888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 flipV="1">
            <a:off x="1906560" y="422748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36480" y="5103720"/>
                <a:ext cx="12621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297080" y="5999040"/>
                <a:ext cx="447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924200" y="5538960"/>
                <a:ext cx="936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793960" y="5083200"/>
                <a:ext cx="7668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932200" y="5948280"/>
                <a:ext cx="447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9160" y="1417680"/>
                <a:ext cx="25876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4152960" y="116208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by the reciproc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24000" y="3173400"/>
                <a:ext cx="15206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805040" y="3184560"/>
                <a:ext cx="9046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221000" y="1843200"/>
            <a:ext cx="4313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79520" y="425124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826920" y="423864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616120" y="3213000"/>
                <a:ext cx="449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 flipV="1">
            <a:off x="1932120" y="3406680"/>
            <a:ext cx="626760" cy="408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00120" y="5103720"/>
                <a:ext cx="13078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246320" y="5981760"/>
                <a:ext cx="492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32120" y="5538960"/>
                <a:ext cx="892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79560" y="5083200"/>
                <a:ext cx="7668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895480" y="5970600"/>
                <a:ext cx="492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87200" y="1417680"/>
                <a:ext cx="24498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152960" y="116208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by the reciproc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7000" y="3357720"/>
                <a:ext cx="180648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63880" y="3368520"/>
                <a:ext cx="61884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221000" y="1843200"/>
            <a:ext cx="4313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28480" y="3405240"/>
                <a:ext cx="495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 flipV="1">
            <a:off x="957240" y="355284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631960" y="439272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flipV="1">
            <a:off x="2062080" y="4476600"/>
            <a:ext cx="627120" cy="408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738360" y="5288040"/>
                <a:ext cx="12618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51000" y="6143760"/>
                <a:ext cx="7160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936800" y="1658880"/>
                <a:ext cx="9237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3120" y="1440000"/>
                <a:ext cx="22179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152960" y="116208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by the reciproc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53880" y="3381480"/>
                <a:ext cx="1521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78200" y="3344760"/>
                <a:ext cx="6188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221000" y="1843200"/>
            <a:ext cx="4313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3309840"/>
                <a:ext cx="451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885960" y="3567240"/>
            <a:ext cx="53316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03520" y="439272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 flipV="1">
            <a:off x="1947960" y="4460760"/>
            <a:ext cx="627120" cy="408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30360" y="5288040"/>
                <a:ext cx="13078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43160" y="6165720"/>
                <a:ext cx="35856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922400" y="5745240"/>
                <a:ext cx="1204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76160" y="1731960"/>
                <a:ext cx="92412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25, 9 – 3 #1-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7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03T13:39:08Z</dcterms:modified>
  <cp:revision>105</cp:revision>
  <dc:subject/>
  <dc:title>Slide 1</dc:title>
</cp:coreProperties>
</file>